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FD1-1F15-4130-8C23-45C33CD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024-08A3-4224-BACD-3EAD21E1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64FBD-C9A1-4AB6-B023-0FE1E243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6E2A7-BA96-4005-B34C-A9DFDC9B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225F-8680-4480-8717-8FE5DA8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96B4E-9BCF-4C87-8C86-ED06578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37115-6F9B-4F40-BC98-0A314FB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E1ED4-AEAD-42B5-9700-E548918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66047-18A5-404C-A2E4-D082964D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D41AA-A136-4EC4-A3BB-F855C3D5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662C8-4844-4AA5-BE96-5ECA7AC3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35B11-E94B-4150-9E9E-27928026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77F-7239-48B2-BE6C-1559B345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6F210-92BA-40ED-AE64-4DADE958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4CEAF-1363-4354-98DB-7070114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0420D-B50F-4324-8A69-492DB6B4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D2193-2713-4707-96AC-CB847857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38381-FAA3-461F-A9C8-BAD1B524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CFFE2-1755-483C-9676-18ABEEA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43092-252A-4A45-88C2-2E51FD7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8390A-C1A6-4903-B7DA-0AA1B2E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737F1-2B77-438E-9654-AE66C444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C65F3-4806-4B0D-9DF4-55C7D59D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988-93D1-40C5-92C0-1644A1CD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4AECE-8517-49E8-82AC-A969FCE6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9BE7A-41B4-4ED0-BAF8-E1AB8820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BEBD2-C6E0-438C-9CEA-A1DE159F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2CB24-88CC-45A4-97FA-A10051B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47883-5FC1-4090-BFBC-3583E5A3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EFE5-21DB-40AF-96B4-A5E425F5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3D2C3-2F51-4C42-AD3B-F2F452C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45ECC-5B0E-4222-8044-04BEB33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D53A9-B14E-4362-8EA7-8699B33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1E487-4203-4D4A-A48C-75F486D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6ED2-3B8C-4057-BD71-D0BE0DE7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10CB-FD76-4C60-A319-A9AC79BF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8916A-311D-4AED-8ADB-D34046A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8D8CC-750D-49C1-A905-A219FF93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58016-8AD7-4234-A7DC-DF827633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EB641-9B58-4517-8BA0-469F44F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D5893-FFCC-41CB-B441-940F7677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0D2AE-268C-4E62-BDDD-E72374A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3CD28-76CD-4A4A-941F-9C0FB1E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2A780-04D3-44B9-B0E3-711E0533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882F3-7AF8-4EF1-A962-A98CCF7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892-0756-46D8-B12C-94608254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73DEA-6CAC-450D-893D-C5E9585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31CD3-E5B3-4916-9FC5-B6FDDF4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A3C9B-CE1B-423D-9AC5-10C6E15B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5061-B05D-49BD-9306-BC7712DE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F97FC-0169-482C-B823-CC87F3B2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4F1E-5DD3-463C-9C16-8EFB8056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275-5087-4252-B76B-BA74852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7C28-9A13-4062-B4D2-2BB2C90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F143-C6F6-410F-8F69-540095A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2CC1-1096-4CD8-B650-B0794DD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055-371D-4AE9-85D4-B382CCC3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E1F7-ECEE-4200-9188-9048512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0822-912D-4858-AD71-BF5CE0D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FEEA-7B04-4853-949A-15525412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3754-9CE7-4360-B35B-6F143D6B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86E0-DA2E-464A-96DE-4D197234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B2D7-EB42-4DFB-8810-42BF295F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B67B-7522-4771-B2CE-50EFEA7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A94E-CF6B-46A3-8F3C-09517F04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3936-FF90-4D6A-A3E3-7AD7CEFC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C277-7DAD-4CD9-9EDA-4D5889DF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DAE-93B2-4D3F-A1B1-312C6896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A417-0C87-478F-B192-69D4D98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2BDC-C33D-46B3-A07D-289B4F8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88AA-E292-40DD-926F-C44A9A68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7212-0E2F-47A6-A784-31C805EB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A86E-E7B3-4011-B099-8512270A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4B65-F06C-468F-8C15-0E9481CD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E909-0F06-4DB7-8530-25918B60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026B-0397-4E08-880C-4657169B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3AC1-4992-4404-86F6-DB5F1250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55AC-EE29-4AAC-B3C9-005F571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622-D0F3-4E50-A2A6-62E2DEA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DADE-CDE1-4D9E-92A4-066BB37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4F05-FAC0-4E71-966D-D545ABC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9ED8-C210-4F56-8E93-45873B20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E17E-393B-4548-8B88-A345F4E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0F81-4B3D-4F8C-8414-FEE62D1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5825-2003-4C79-B126-D013F9C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6109-C9A3-4D11-AFDD-0A96EAF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B42F-D77F-43D1-BAAD-AAD31431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4A29-2D6B-40E8-B91B-CF677D02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543B0-F35A-4AB8-8C48-59A50A3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590-D45F-4799-9AE1-EA2910F5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0721-104C-4F84-8DB6-293E50A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4B2D-05BA-4B29-9E71-3BC2A06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0883D-7F2C-49AF-9435-6F10EA7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5F67-EA01-42C3-A45E-63C186E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9F07-9B72-40AE-8A42-B1B886F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E0331-C202-4566-AC7A-C4D0D2A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A27D-1528-4CEA-B9DF-E87F55A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5B87C-34D2-4D7C-9FDE-625B0D8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F8E8-8D0E-4EB4-AC32-86E846F0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E98D-08F8-49F8-BC1D-B5569706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C77-F422-4D06-8DB7-1B879EB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D7F9-EA89-444F-B176-EB2C01D8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B7A81-FD5D-45CB-A343-117DB394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F85C-5CBE-4F63-9949-6FD6B6D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1B9A-069D-4AC7-8BBC-1B416ACD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5668-DA4D-4552-8577-F751EF6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BEAF-703A-4B57-BE85-E9AAC89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9A5D-D6D4-4300-BBCD-44F06710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F4C5-79E1-4779-8281-D429B99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D32D-353F-4569-B883-00298CCF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9C85-423B-4678-89C6-41E84B55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4BE-CF67-4D5A-982D-716E9F0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B14B-0991-400F-A16A-B26FAA7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9A222-0D80-4ED3-A2BD-32E33D69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A4B1-B6DF-484F-97FE-6859047B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7AF7-2974-449C-BBA4-021C6F03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D3FB-52D2-440F-85A6-2783340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3BB6-612B-49FE-8490-9098ED4A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2A16-CCBC-4CF2-AB21-BDEDDD5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5656E-521E-4F9D-9A48-6F835CB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5B298-DA36-40BD-8F98-64A054AE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57378-C78F-40CF-9DA9-0D10A3A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5E4-FE4A-412D-AD09-E8465FB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2DEE-2BA8-4199-AA4B-F7E3969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417A-75D3-4E4F-BE08-B948F93D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F102F-8216-4690-BBAC-8D22BCCA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A3F2-EA73-4C7F-A9CA-E4DAE2E7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44EE-BCAE-4208-91EE-EB545B1E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7759D-1DBC-46D4-8DA2-48226A71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DFF84-81AA-49CF-A0A2-EB7A3AC4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C4BF-EEF2-4BEC-93B3-592131D6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590B8-45BC-4699-AC1B-CCD2B3E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C511-7716-43AA-BF1D-D360536B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C82-84E7-4191-B6CC-431445E6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E12C-1442-4289-9973-72245ED8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03FE7-21F3-433A-B8BE-0CD1BD3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9CB0-C0CD-4217-B296-B448055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0FD3-C5A5-477E-AAD3-AD60CD1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02B5A-6BA0-48BB-AA91-BB21752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B2C1-DE16-4289-B804-D54D4225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8747-F941-4BCE-96F7-749BBFD1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0D0DF-2730-4BF4-825C-A360AE22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0D1BC-44EF-4651-958D-2BF9E33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CF3E3-945C-4EF3-8F15-4942B6E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418F-083B-4529-A720-F5E6426375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6E08-B6B4-477F-9A74-E4611DE0E8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9520-2DD9-4880-AD43-2FBDEEF161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3FD-A5F1-4590-913B-926C476992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4495-1464-483D-AB1F-2F21CA7834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7F08-FB64-4ADF-B6E5-1EB84B789B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AF8-91DB-4B95-A6C6-6136E1BB75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D992-5974-4134-82DD-E4E65A9A86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8685-0928-44C0-A255-BA9863CD13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188-5A25-4377-BA37-A34353EB0B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F5EC-5919-48AE-A53D-2FFB25F6C0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D1A-B210-4982-AA7D-6D6D5D9D82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9 Víťazom v boji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d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a dal sám s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ňa i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by mannou z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ýtil nás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om v bo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odev chy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čisté rúc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ostne zdobené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je naš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a večne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krvou jeho bolo zbiel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rúchu sp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ebies kr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na večné čas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ojsť dá Pán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om v boji Pán život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ub večnej sláv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pozemských kr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mrť už nik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ude mať pr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ončí sa hriec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rap bôľn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vždy bde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žiu moc ver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k víťazstvu spe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ánom vpred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íťazom v boji nič už neuško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 z Božích rúk nemôže vyrvať 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voji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spásy verne vo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zlobou chráni die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asoch zl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boji časn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stve vzác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 domove krás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ta ich Pá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om v bo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zo skrytej man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, čo raz sám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ebom stal pre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ad duše stíši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požehna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učí nás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darov nebesk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52:59Z</dcterms:modified>
  <cp:revision>23</cp:revision>
  <dc:subject/>
  <dc:title>Je veľký náš Pán, on slávy je Kráľ Nech do všetkých strán  spev vrúcnych znie chvál.</dc:title>
</cp:coreProperties>
</file>